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4C5D-8528-4CE0-973C-214719B75F7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DA6-CE4D-4DB8-A74E-989A37FF61D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27C6-2615-45EF-A26A-898E354F83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8EF7-F511-4604-97E6-DADE8F4EEF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71B-8B3C-4D05-AD8B-90C10555A9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F49E-4C6F-445C-B619-37A8E0825E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9858-5CC4-4E4E-93A1-81C0A838E5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0395-1711-498B-A6C3-DE3131446A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51C4-755F-4D03-B3C3-C8BA1C7B967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890-E376-4914-A22C-50A83FEA797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C34F-5792-42D7-96CE-F1960735E7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E6A4-B583-42A9-A7A3-CA05588A2E1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0C70-72A0-409A-BD67-32E1C34B68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BC01-CB1D-457C-8283-DE7DB38E458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3637-E015-4C1F-94CE-7F7CE31D9E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EED3-851B-42D3-8764-ECEEE7B491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6E51-E9A2-4B15-A535-C8336FE1F2A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213D-1834-4CA2-A939-9DBCF0B0C21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BCC-92A6-4357-A91E-29185F603ED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9637-6FCC-4118-AA6C-A3C1ECAA70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9677-457A-4477-8BB9-C23CBCA98E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AF5E-400D-47D0-9117-DDA406F10A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13E7-CD0B-47C0-8798-B2010FC25D4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D46-DEF7-430B-B0A6-89FB8960945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1D88-6793-4803-8031-ECB23A99778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5023-28AF-4108-8C79-917AC716527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1D9C-DEB3-46F0-B79E-DAF2817BEF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F7F2-7A5D-47B3-B886-B8506F3E08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C136-78AB-45AA-9ECA-4E9744FA9A8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A68A-5A3C-434B-A196-8F25B486F4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2080-30DD-4C58-8BE1-C9F6B6968C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775-EFD8-4DF5-8F96-20BD1C642E1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8413-CE59-438E-9295-2568EC9E91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2BD-6AB3-4D5D-97C2-E2CC8FEBE8B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8578-74C4-4B1D-826E-2867A72264E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 contaminación es un término general usado para describir el material indeseado que afecta negativamente a la fabricación o síntesis de un nano-producto un producto nano tiene al menos una dimensión en la nano-escala contaminación afecta a tres áreas principales: procesamiento de rendimiento rendimiento confiabil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3A6C-B7E0-4294-9CED-EF1E0E68B3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31E6-559F-4E50-9854-00D0CC947F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110-A4D6-43F7-A56F-D73A7F2999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E18F-B89E-46E9-AF67-F9EC3AA82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B66C-8442-409B-B944-459653549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3261-8641-4540-87C3-82051C712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2D75-2C26-4CD0-91A3-F24DA3243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A257-AD37-4519-9E1C-C64930A97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3680-BA8E-4746-9DAF-85EF213C1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0DF6-B67E-4853-AB75-1B07EE18F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ACB0-FCA9-41FE-AC6C-F4A45AB60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5050-171B-45A3-B608-C6BD1B482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24FE-EB54-4CBA-AC20-5B4EFD6F1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DA12-A003-4AFF-9297-50A2C83EC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5B6A-5C2A-4027-801B-82D79B026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A0E6-AB6B-4932-92EB-588EA3450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58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nstenvsci.org/" TargetMode="External"/><Relationship Id="rId2" Type="http://schemas.openxmlformats.org/officeDocument/2006/relationships/hyperlink" Target="mailto:Instenvsci@aol.co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6458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8"/>
          <p:cNvSpPr/>
          <p:nvPr/>
        </p:nvSpPr>
        <p:spPr>
          <a:xfrm>
            <a:off x="0" y="61722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ducción: Prof. Carlos Vicente Prado – Universidad de Puerto Rico – Recinto de Río Piedr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ación General sobre Materiales, Seguridad y Equipos para la Nanotecnología </a:t>
            </a:r>
            <a:br>
              <a:rPr sz="3600"/>
            </a:br>
            <a:br>
              <a:rPr sz="36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ESC 2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27280" y="441360"/>
            <a:ext cx="3595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Rendimiento del Proc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pérdida de rendimiento es cuando los nano-productos no resultan de la manera deseada. Si todos los productos salieran de la manera deseada el rendimiento sería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rocesar en un ambiente contaminado puede causar una multitud de problemas que resultan en menor rendimiento. Ejemplos de esto serían: cambios en las dimensiones o alteraciones inadvertidas en las propiedades de los materi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xiste un gran número de medidas de control de calidad que se usan durante el proceso de manufactura para minimizar los problemas de conta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Rendimiento del Proc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ontaminación trae como consecuencia el que menos nano-productos terminen el proceso y por lo tanto una disminución en el rendimiento y aumento en los costos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Ejecu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 posible que pequeñas regiones contaminadas logren burlar los controles de calidad del proceso de manuf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Materiales aparentemente limpios pueden tener contaminantes no detectados que alteren la ejecutoria del produ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f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problema mas serio asociado con la contaminación son las fallas en los productos; es decir, la falta de confiabilidad de 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fallas en el funcionamiento de los productos son particularmente preocupantes para las aplicaciones medicas, aeroespaciales y milita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f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onfiabilidad también puede ser de gran importancia en   aplicaciones para el consumidor.  Por ejemplo un teléfono celular poco confiable puede llevar al consumidor a cancelar su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uede haber serias repercusiones financieras cuando se produce un producto con problemas de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mpacto de la Contaminación en el Rendimiento del Proc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impacto de la contaminación es una función del tamaño de los nano-productos y el tamaño, tipo y concentración de los contamin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Tipos de Contam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el propósito de nuestra discusión, dividimos la contaminación en las siguientes categor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elículas y residu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Á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tos contaminantes pueden ser factores al emprender la fabricación a escala nanom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Cambria"/>
              </a:rPr>
              <a:t>Películas y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tas son finas capas de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residuos de aceite y sudor de las manos de los seres humanos que trabajan en el proceso de nanotecnología son un ejemplo muy común y problemático de este tipo de conta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Par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Son pequeños objetos que pueden adherirse a materiales y son la forma más común de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partículas suspendidas en el aire, como por ejemplo el perfume, son una clase especial de partículas conocidas como aeros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partículas tienen una amplia gama de tam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80880" y="2746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Tamaño Relativo de Algunas Partícul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2286000" y="480060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 µm – Barely Visible to the Naked Ey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800600" y="630720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457200" y="1219320"/>
            <a:ext cx="8686800" cy="5257800"/>
            <a:chOff x="457200" y="1219320"/>
            <a:chExt cx="8686800" cy="5257800"/>
          </a:xfrm>
        </p:grpSpPr>
        <p:sp>
          <p:nvSpPr>
            <p:cNvPr id="91" name="Straight Connector 21"/>
            <p:cNvSpPr/>
            <p:nvPr/>
          </p:nvSpPr>
          <p:spPr>
            <a:xfrm>
              <a:off x="5715000" y="495324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9"/>
            <p:cNvGrpSpPr/>
            <p:nvPr/>
          </p:nvGrpSpPr>
          <p:grpSpPr>
            <a:xfrm>
              <a:off x="952200" y="1219320"/>
              <a:ext cx="6743880" cy="5257800"/>
              <a:chOff x="952200" y="1219320"/>
              <a:chExt cx="6743880" cy="5257800"/>
            </a:xfrm>
          </p:grpSpPr>
          <p:sp>
            <p:nvSpPr>
              <p:cNvPr id="93" name="TextBox 5"/>
              <p:cNvSpPr/>
              <p:nvPr/>
            </p:nvSpPr>
            <p:spPr>
              <a:xfrm>
                <a:off x="1980720" y="1219320"/>
                <a:ext cx="259092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oléculas de ga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ru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umo de tabac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Bacteri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iebl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Glóbulo rojo adult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arina, polvo, polen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abello human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Arena de play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Box 6"/>
              <p:cNvSpPr/>
              <p:nvPr/>
            </p:nvSpPr>
            <p:spPr>
              <a:xfrm>
                <a:off x="5105160" y="1219320"/>
                <a:ext cx="259092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1 - 1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– 100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 – 300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2 – 10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 – 50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.5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 – 50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0 – 120 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0 µm and up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952200" y="1371600"/>
                <a:ext cx="799920" cy="510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Straight Connector 23"/>
            <p:cNvSpPr/>
            <p:nvPr/>
          </p:nvSpPr>
          <p:spPr>
            <a:xfrm flipH="1" flipV="1">
              <a:off x="457200" y="495144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dad 2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Infraestructura de Procesamiento y de Manu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ferencia 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Qué Es Infraestructura y Por Qué La Necesitamo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Tamaño Relativo de Par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4"/>
          <p:cNvCxnSpPr/>
          <p:nvPr/>
        </p:nvCxnSpPr>
        <p:spPr>
          <a:xfrm>
            <a:off x="5714640" y="3962520"/>
            <a:ext cx="16009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Straight Arrow Connector 5"/>
          <p:cNvCxnSpPr/>
          <p:nvPr/>
        </p:nvCxnSpPr>
        <p:spPr>
          <a:xfrm flipH="1">
            <a:off x="1752120" y="3962160"/>
            <a:ext cx="1829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7"/>
          <p:cNvSpPr/>
          <p:nvPr/>
        </p:nvSpPr>
        <p:spPr>
          <a:xfrm>
            <a:off x="3657600" y="354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bello Human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100 µm 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676520" y="1143000"/>
            <a:ext cx="5715000" cy="51055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2819520" y="5029200"/>
            <a:ext cx="610920" cy="51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3048120" y="2590920"/>
            <a:ext cx="9504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3455640" y="510552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tícu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≈10 µm Di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3182760" y="243828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tícu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≈0.5 µm Di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286680" y="6048360"/>
            <a:ext cx="27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ontaminación con Iones Móviles (CIM) puede contribuir a la corrosión y debido a las cargas de los iones, alterar las características eléctricas, cambiando factores de confiabilidad y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iones del Grupo I son Contaminantes Iónicos Móviles (CIMs)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ntes Iónicos Móv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Son átomos en forma I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Aun pequeñas concentraciones de CIMs, de 10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10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atoms/cm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o menos, son suficientes para causar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Como referencia, los átomos de una superficie tienen una densidad de 10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14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átomos/cm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Por lo tanto, 10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10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átomos/cm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equivale a 1 contaminante por 10,000 átomos en cada cm</a:t>
            </a:r>
            <a:r>
              <a:rPr b="0" lang="es-PR" sz="24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 de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ntes Iónicos Móv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Como su nombre indica, los CIMs son altamente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Los CIMs se pueden mover a través de un nanoproducto electrónico aun después de que este haya sido sometido a pruebas eléctricas y haber sido embarcado a su destino final.  Esto ocasiona problemas operacionales en el ca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Los materiales del Grupo I como sodio, potasio y litio son CIMs comu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mpurezas Metálicas que Pueden Contaminar Algunos Nano-productos, Pero que son Esenciales Para los 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ambria"/>
              </a:rPr>
              <a:t>Sistemas Bio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25146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Metales p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mbria"/>
              </a:rPr>
              <a:t>Hierro (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bre (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luminio (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romo (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Tungsteno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Titanio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6720" y="251460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Metales Alcalinos (del  Grupo IA, ¡muy reactivo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mbria"/>
              </a:rPr>
              <a:t>Sodio (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mbria"/>
              </a:rPr>
              <a:t>Potasio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mbria"/>
              </a:rPr>
              <a:t>Litio (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ción Atómica, Molecular, de Película Fina y Res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Puede veni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Reactivos Químicos, incluyendo el agua des-ionizada (D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Reacciones Quí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El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Los contaminantes pueden ser orgánicos o in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Orgá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término "orgánico" se utiliza generalmente para referirse a cualquier compuesto que contenga carbono (algunas excepciones notables son: diamante, grafito y graf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lgunos contaminantes orgánicos son moléculas, películas delgadas y los residuos dejados por algún paso del proceso o alguna otra exposición 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lgunos contaminantes orgánicos típicos son:  bacterias, procesamiento de residuos, lubricantes, vapores, detergentes y disolv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Orgá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bacterias, por ejemplo, crecen en sistemas de agua y en superficies que no se limpian regula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Una vez presentes en la fabricación y síntesis, las bacterias pueden actuar como partículas contaminantes o contribuir a la concentración de iones metálicos y 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norgánico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término "inorgánico" generalmente se refiere a cualquier sustancia que no contiene carbono (con excepciones como: diamante, grafito, graf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contaminantes inorgánicos son átomos, moléculas, películas delgadas y residuos dejados por los procesos o alguna otra exposición a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Fuentes de Contam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Todo lo que entra en contacto con un producto durante su fabricación es una fuente potencial de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fuentes principales de contaminación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ire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gua usada durante 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quipo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eactivos químicos del procesamiento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Gases usados en 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ersonal trabajando en 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*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* ¿Por qué es necesaria en la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nanotecnolog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Fac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Tipos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* Sistemas basados en tecnología de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* Sistemas sin tecnología de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Bosquejo de la Un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aire, debido a la alta concentración de partículas y aerosoles, debe ser tratado antes de introducirse en una sala limpia o utilizado en un ambiente controlado como una campana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niveles de limpieza en salas limpias y campanas de aire, se identifican por los diámetros de partículas y la densidad de partículas presentes en el 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alidad del aire es identificada por el número de clase; este se define por el número de partículas de un diámetro especificado en un metro cúbico de 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5960" cy="4219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22860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Tamaño de Partícula y Límites de Densidad en el Ambiente de Aire Limp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676520" y="1905120"/>
            <a:ext cx="6248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úmero de partículas por pie cubico con un tamaño igual o menor al tamaño indic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286000" y="5257800"/>
            <a:ext cx="4952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Área Rur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= 2,000,0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Ciudad o Área Industrial = 5,000,0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971800" y="267804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 de las partícu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066680" y="762120"/>
            <a:ext cx="7239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Estándar Federal 20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mbria"/>
              </a:rPr>
              <a:t>Este estándar fue publicado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en el 1963 en E.E. U.U. </a:t>
            </a:r>
            <a:r>
              <a:rPr b="1" lang="es-ES_tradnl" sz="1800" spc="-1" strike="noStrike">
                <a:solidFill>
                  <a:srgbClr val="000000"/>
                </a:solidFill>
                <a:latin typeface="Cambria"/>
              </a:rPr>
              <a:t>con el título: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"Cleanroom and Work Station Requirements, Controlled Environments".  </a:t>
            </a:r>
            <a:r>
              <a:rPr b="1" lang="es-ES_tradnl" sz="1800" spc="-1" strike="noStrike">
                <a:solidFill>
                  <a:srgbClr val="000000"/>
                </a:solidFill>
                <a:latin typeface="Cambria"/>
              </a:rPr>
              <a:t>El mismo se revisó en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66 (209A), en 1973 (209B), en 1987 (C), 1988 (D) y 1992 (E). </a:t>
            </a:r>
            <a:r>
              <a:rPr b="1" lang="es-ES_tradnl" sz="1800" spc="-1" strike="noStrike">
                <a:solidFill>
                  <a:srgbClr val="000000"/>
                </a:solidFill>
                <a:latin typeface="Cambria"/>
              </a:rPr>
              <a:t>Para obtenerlo puede contactar 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Cambria"/>
                <a:hlinkClick r:id="rId1"/>
              </a:rPr>
              <a:t>Institute of Environmental Scien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940 East Northwest Highwa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Mount Prospec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llinois, 6005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US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Tel: 0101 708 255 156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Fax: 0101 708 255 1699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orreo electrónico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ambria"/>
                <a:hlinkClick r:id="rId2"/>
              </a:rPr>
              <a:t>Instenvsci@aol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9143640" cy="5791320"/>
            <a:chOff x="0" y="0"/>
            <a:chExt cx="9143640" cy="5791320"/>
          </a:xfrm>
        </p:grpSpPr>
        <p:grpSp>
          <p:nvGrpSpPr>
            <p:cNvPr id="135" name="Group 3"/>
            <p:cNvGrpSpPr/>
            <p:nvPr/>
          </p:nvGrpSpPr>
          <p:grpSpPr>
            <a:xfrm>
              <a:off x="5040" y="2880"/>
              <a:ext cx="9132840" cy="5784840"/>
              <a:chOff x="5040" y="2880"/>
              <a:chExt cx="9132840" cy="5784840"/>
            </a:xfrm>
          </p:grpSpPr>
          <p:grpSp>
            <p:nvGrpSpPr>
              <p:cNvPr id="136" name="Group 4"/>
              <p:cNvGrpSpPr/>
              <p:nvPr/>
            </p:nvGrpSpPr>
            <p:grpSpPr>
              <a:xfrm>
                <a:off x="5040" y="2880"/>
                <a:ext cx="1199880" cy="565560"/>
                <a:chOff x="5040" y="2880"/>
                <a:chExt cx="1199880" cy="565560"/>
              </a:xfrm>
            </p:grpSpPr>
            <p:sp>
              <p:nvSpPr>
                <p:cNvPr id="137" name="Rectangle 5"/>
                <p:cNvSpPr/>
                <p:nvPr/>
              </p:nvSpPr>
              <p:spPr>
                <a:xfrm>
                  <a:off x="56520" y="36720"/>
                  <a:ext cx="108828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úmero ISO *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6"/>
                <p:cNvSpPr/>
                <p:nvPr/>
              </p:nvSpPr>
              <p:spPr>
                <a:xfrm>
                  <a:off x="5040" y="2880"/>
                  <a:ext cx="11998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7"/>
              <p:cNvGrpSpPr/>
              <p:nvPr/>
            </p:nvGrpSpPr>
            <p:grpSpPr>
              <a:xfrm>
                <a:off x="1205280" y="2880"/>
                <a:ext cx="7932600" cy="565560"/>
                <a:chOff x="1205280" y="2880"/>
                <a:chExt cx="7932600" cy="565560"/>
              </a:xfrm>
            </p:grpSpPr>
            <p:sp>
              <p:nvSpPr>
                <p:cNvPr id="140" name="Rectangle 8"/>
                <p:cNvSpPr/>
                <p:nvPr/>
              </p:nvSpPr>
              <p:spPr>
                <a:xfrm>
                  <a:off x="1256760" y="36720"/>
                  <a:ext cx="782604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Límites de concentración máxima (partículas/m</a:t>
                  </a:r>
                  <a:r>
                    <a:rPr b="1" lang="es-ES" sz="14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 de aire) para partículas iguales y mayores que los tamaños considerados que se muestra a continuación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9"/>
                <p:cNvSpPr/>
                <p:nvPr/>
              </p:nvSpPr>
              <p:spPr>
                <a:xfrm>
                  <a:off x="1205280" y="2880"/>
                  <a:ext cx="79326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10"/>
              <p:cNvGrpSpPr/>
              <p:nvPr/>
            </p:nvGrpSpPr>
            <p:grpSpPr>
              <a:xfrm>
                <a:off x="5040" y="633600"/>
                <a:ext cx="1199880" cy="481680"/>
                <a:chOff x="5040" y="633600"/>
                <a:chExt cx="1199880" cy="481680"/>
              </a:xfrm>
            </p:grpSpPr>
            <p:sp>
              <p:nvSpPr>
                <p:cNvPr id="143" name="Rectangle 11"/>
                <p:cNvSpPr/>
                <p:nvPr/>
              </p:nvSpPr>
              <p:spPr>
                <a:xfrm>
                  <a:off x="56520" y="668520"/>
                  <a:ext cx="10882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12"/>
                <p:cNvSpPr/>
                <p:nvPr/>
              </p:nvSpPr>
              <p:spPr>
                <a:xfrm>
                  <a:off x="5040" y="63360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3"/>
              <p:cNvGrpSpPr/>
              <p:nvPr/>
            </p:nvGrpSpPr>
            <p:grpSpPr>
              <a:xfrm>
                <a:off x="1205280" y="633600"/>
                <a:ext cx="1503360" cy="481680"/>
                <a:chOff x="1205280" y="633600"/>
                <a:chExt cx="1503360" cy="481680"/>
              </a:xfrm>
            </p:grpSpPr>
            <p:sp>
              <p:nvSpPr>
                <p:cNvPr id="146" name="Rectangle 14"/>
                <p:cNvSpPr/>
                <p:nvPr/>
              </p:nvSpPr>
              <p:spPr>
                <a:xfrm>
                  <a:off x="1256760" y="668520"/>
                  <a:ext cx="1397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1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15"/>
                <p:cNvSpPr/>
                <p:nvPr/>
              </p:nvSpPr>
              <p:spPr>
                <a:xfrm>
                  <a:off x="1205280" y="63360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16"/>
              <p:cNvGrpSpPr/>
              <p:nvPr/>
            </p:nvGrpSpPr>
            <p:grpSpPr>
              <a:xfrm>
                <a:off x="2709000" y="633600"/>
                <a:ext cx="1217160" cy="481680"/>
                <a:chOff x="2709000" y="633600"/>
                <a:chExt cx="1217160" cy="481680"/>
              </a:xfrm>
            </p:grpSpPr>
            <p:sp>
              <p:nvSpPr>
                <p:cNvPr id="149" name="Rectangle 17"/>
                <p:cNvSpPr/>
                <p:nvPr/>
              </p:nvSpPr>
              <p:spPr>
                <a:xfrm>
                  <a:off x="2764440" y="66852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2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18"/>
                <p:cNvSpPr/>
                <p:nvPr/>
              </p:nvSpPr>
              <p:spPr>
                <a:xfrm>
                  <a:off x="2709000" y="63360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9"/>
              <p:cNvGrpSpPr/>
              <p:nvPr/>
            </p:nvGrpSpPr>
            <p:grpSpPr>
              <a:xfrm>
                <a:off x="3926880" y="633600"/>
                <a:ext cx="1197720" cy="481680"/>
                <a:chOff x="3926880" y="633600"/>
                <a:chExt cx="1197720" cy="481680"/>
              </a:xfrm>
            </p:grpSpPr>
            <p:sp>
              <p:nvSpPr>
                <p:cNvPr id="152" name="Rectangle 20"/>
                <p:cNvSpPr/>
                <p:nvPr/>
              </p:nvSpPr>
              <p:spPr>
                <a:xfrm>
                  <a:off x="3981960" y="668520"/>
                  <a:ext cx="10875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3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21"/>
                <p:cNvSpPr/>
                <p:nvPr/>
              </p:nvSpPr>
              <p:spPr>
                <a:xfrm>
                  <a:off x="3926880" y="63360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22"/>
              <p:cNvGrpSpPr/>
              <p:nvPr/>
            </p:nvGrpSpPr>
            <p:grpSpPr>
              <a:xfrm>
                <a:off x="5124960" y="633600"/>
                <a:ext cx="1445040" cy="481680"/>
                <a:chOff x="5124960" y="633600"/>
                <a:chExt cx="1445040" cy="481680"/>
              </a:xfrm>
            </p:grpSpPr>
            <p:sp>
              <p:nvSpPr>
                <p:cNvPr id="155" name="Rectangle 23"/>
                <p:cNvSpPr/>
                <p:nvPr/>
              </p:nvSpPr>
              <p:spPr>
                <a:xfrm>
                  <a:off x="5180400" y="668520"/>
                  <a:ext cx="13273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5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24"/>
                <p:cNvSpPr/>
                <p:nvPr/>
              </p:nvSpPr>
              <p:spPr>
                <a:xfrm>
                  <a:off x="5124960" y="63360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5"/>
              <p:cNvGrpSpPr/>
              <p:nvPr/>
            </p:nvGrpSpPr>
            <p:grpSpPr>
              <a:xfrm>
                <a:off x="6570360" y="633600"/>
                <a:ext cx="1350000" cy="481680"/>
                <a:chOff x="6570360" y="633600"/>
                <a:chExt cx="1350000" cy="481680"/>
              </a:xfrm>
            </p:grpSpPr>
            <p:sp>
              <p:nvSpPr>
                <p:cNvPr id="158" name="Rectangle 26"/>
                <p:cNvSpPr/>
                <p:nvPr/>
              </p:nvSpPr>
              <p:spPr>
                <a:xfrm>
                  <a:off x="6621840" y="668520"/>
                  <a:ext cx="12466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27"/>
                <p:cNvSpPr/>
                <p:nvPr/>
              </p:nvSpPr>
              <p:spPr>
                <a:xfrm>
                  <a:off x="6570360" y="63360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921080" y="633600"/>
                <a:ext cx="1216800" cy="481680"/>
                <a:chOff x="7921080" y="633600"/>
                <a:chExt cx="1216800" cy="481680"/>
              </a:xfrm>
            </p:grpSpPr>
            <p:sp>
              <p:nvSpPr>
                <p:cNvPr id="161" name="Rectangle 29"/>
                <p:cNvSpPr/>
                <p:nvPr/>
              </p:nvSpPr>
              <p:spPr>
                <a:xfrm>
                  <a:off x="7976160" y="66852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.0 µm 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30"/>
                <p:cNvSpPr/>
                <p:nvPr/>
              </p:nvSpPr>
              <p:spPr>
                <a:xfrm>
                  <a:off x="7921080" y="63360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1"/>
              <p:cNvGrpSpPr/>
              <p:nvPr/>
            </p:nvGrpSpPr>
            <p:grpSpPr>
              <a:xfrm>
                <a:off x="5040" y="1180800"/>
                <a:ext cx="1199880" cy="397440"/>
                <a:chOff x="5040" y="1180800"/>
                <a:chExt cx="1199880" cy="397440"/>
              </a:xfrm>
            </p:grpSpPr>
            <p:sp>
              <p:nvSpPr>
                <p:cNvPr id="164" name="Rectangle 32"/>
                <p:cNvSpPr/>
                <p:nvPr/>
              </p:nvSpPr>
              <p:spPr>
                <a:xfrm>
                  <a:off x="56520" y="1213200"/>
                  <a:ext cx="108828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1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33"/>
                <p:cNvSpPr/>
                <p:nvPr/>
              </p:nvSpPr>
              <p:spPr>
                <a:xfrm>
                  <a:off x="5040" y="1180800"/>
                  <a:ext cx="119988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4"/>
              <p:cNvGrpSpPr/>
              <p:nvPr/>
            </p:nvGrpSpPr>
            <p:grpSpPr>
              <a:xfrm>
                <a:off x="1205280" y="1180800"/>
                <a:ext cx="1503360" cy="397440"/>
                <a:chOff x="1205280" y="1180800"/>
                <a:chExt cx="1503360" cy="397440"/>
              </a:xfrm>
            </p:grpSpPr>
            <p:sp>
              <p:nvSpPr>
                <p:cNvPr id="167" name="Rectangle 35"/>
                <p:cNvSpPr/>
                <p:nvPr/>
              </p:nvSpPr>
              <p:spPr>
                <a:xfrm>
                  <a:off x="1256760" y="1213200"/>
                  <a:ext cx="139716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36"/>
                <p:cNvSpPr/>
                <p:nvPr/>
              </p:nvSpPr>
              <p:spPr>
                <a:xfrm>
                  <a:off x="1205280" y="1180800"/>
                  <a:ext cx="150336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37"/>
              <p:cNvGrpSpPr/>
              <p:nvPr/>
            </p:nvGrpSpPr>
            <p:grpSpPr>
              <a:xfrm>
                <a:off x="2709000" y="1180800"/>
                <a:ext cx="1217160" cy="397440"/>
                <a:chOff x="2709000" y="1180800"/>
                <a:chExt cx="1217160" cy="397440"/>
              </a:xfrm>
            </p:grpSpPr>
            <p:sp>
              <p:nvSpPr>
                <p:cNvPr id="170" name="Rectangle 38"/>
                <p:cNvSpPr/>
                <p:nvPr/>
              </p:nvSpPr>
              <p:spPr>
                <a:xfrm>
                  <a:off x="2764440" y="1213200"/>
                  <a:ext cx="1106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39"/>
                <p:cNvSpPr/>
                <p:nvPr/>
              </p:nvSpPr>
              <p:spPr>
                <a:xfrm>
                  <a:off x="2709000" y="1180800"/>
                  <a:ext cx="121716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3926880" y="1180800"/>
                <a:ext cx="1197720" cy="397440"/>
                <a:chOff x="3926880" y="1180800"/>
                <a:chExt cx="1197720" cy="397440"/>
              </a:xfrm>
            </p:grpSpPr>
            <p:sp>
              <p:nvSpPr>
                <p:cNvPr id="173" name="Rectangle 41"/>
                <p:cNvSpPr/>
                <p:nvPr/>
              </p:nvSpPr>
              <p:spPr>
                <a:xfrm>
                  <a:off x="3981960" y="1213200"/>
                  <a:ext cx="108756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42"/>
                <p:cNvSpPr/>
                <p:nvPr/>
              </p:nvSpPr>
              <p:spPr>
                <a:xfrm>
                  <a:off x="3926880" y="1180800"/>
                  <a:ext cx="119772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43"/>
              <p:cNvGrpSpPr/>
              <p:nvPr/>
            </p:nvGrpSpPr>
            <p:grpSpPr>
              <a:xfrm>
                <a:off x="5124960" y="1180800"/>
                <a:ext cx="1445040" cy="397440"/>
                <a:chOff x="5124960" y="1180800"/>
                <a:chExt cx="1445040" cy="397440"/>
              </a:xfrm>
            </p:grpSpPr>
            <p:sp>
              <p:nvSpPr>
                <p:cNvPr id="176" name="Rectangle 44"/>
                <p:cNvSpPr/>
                <p:nvPr/>
              </p:nvSpPr>
              <p:spPr>
                <a:xfrm>
                  <a:off x="5180400" y="1213200"/>
                  <a:ext cx="132732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45"/>
                <p:cNvSpPr/>
                <p:nvPr/>
              </p:nvSpPr>
              <p:spPr>
                <a:xfrm>
                  <a:off x="5124960" y="1180800"/>
                  <a:ext cx="144504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46"/>
              <p:cNvGrpSpPr/>
              <p:nvPr/>
            </p:nvGrpSpPr>
            <p:grpSpPr>
              <a:xfrm>
                <a:off x="6570360" y="1180800"/>
                <a:ext cx="1350000" cy="397440"/>
                <a:chOff x="6570360" y="1180800"/>
                <a:chExt cx="1350000" cy="397440"/>
              </a:xfrm>
            </p:grpSpPr>
            <p:sp>
              <p:nvSpPr>
                <p:cNvPr id="179" name="Rectangle 47"/>
                <p:cNvSpPr/>
                <p:nvPr/>
              </p:nvSpPr>
              <p:spPr>
                <a:xfrm>
                  <a:off x="6621840" y="1213200"/>
                  <a:ext cx="124668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48"/>
                <p:cNvSpPr/>
                <p:nvPr/>
              </p:nvSpPr>
              <p:spPr>
                <a:xfrm>
                  <a:off x="6570360" y="1180800"/>
                  <a:ext cx="135000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49"/>
              <p:cNvGrpSpPr/>
              <p:nvPr/>
            </p:nvGrpSpPr>
            <p:grpSpPr>
              <a:xfrm>
                <a:off x="7921080" y="1180800"/>
                <a:ext cx="1216800" cy="397440"/>
                <a:chOff x="7921080" y="1180800"/>
                <a:chExt cx="1216800" cy="397440"/>
              </a:xfrm>
            </p:grpSpPr>
            <p:sp>
              <p:nvSpPr>
                <p:cNvPr id="182" name="Rectangle 50"/>
                <p:cNvSpPr/>
                <p:nvPr/>
              </p:nvSpPr>
              <p:spPr>
                <a:xfrm>
                  <a:off x="7976160" y="1213200"/>
                  <a:ext cx="1106640" cy="32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51"/>
                <p:cNvSpPr/>
                <p:nvPr/>
              </p:nvSpPr>
              <p:spPr>
                <a:xfrm>
                  <a:off x="7921080" y="1180800"/>
                  <a:ext cx="1216800" cy="39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52"/>
              <p:cNvGrpSpPr/>
              <p:nvPr/>
            </p:nvGrpSpPr>
            <p:grpSpPr>
              <a:xfrm>
                <a:off x="5040" y="1644120"/>
                <a:ext cx="1199880" cy="397800"/>
                <a:chOff x="5040" y="1644120"/>
                <a:chExt cx="1199880" cy="397800"/>
              </a:xfrm>
            </p:grpSpPr>
            <p:sp>
              <p:nvSpPr>
                <p:cNvPr id="185" name="Rectangle 53"/>
                <p:cNvSpPr/>
                <p:nvPr/>
              </p:nvSpPr>
              <p:spPr>
                <a:xfrm>
                  <a:off x="56520" y="1677960"/>
                  <a:ext cx="108828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54"/>
                <p:cNvSpPr/>
                <p:nvPr/>
              </p:nvSpPr>
              <p:spPr>
                <a:xfrm>
                  <a:off x="5040" y="1644120"/>
                  <a:ext cx="119988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55"/>
              <p:cNvGrpSpPr/>
              <p:nvPr/>
            </p:nvGrpSpPr>
            <p:grpSpPr>
              <a:xfrm>
                <a:off x="1205280" y="1644120"/>
                <a:ext cx="1503360" cy="397800"/>
                <a:chOff x="1205280" y="1644120"/>
                <a:chExt cx="1503360" cy="397800"/>
              </a:xfrm>
            </p:grpSpPr>
            <p:sp>
              <p:nvSpPr>
                <p:cNvPr id="188" name="Rectangle 56"/>
                <p:cNvSpPr/>
                <p:nvPr/>
              </p:nvSpPr>
              <p:spPr>
                <a:xfrm>
                  <a:off x="1256760" y="1677960"/>
                  <a:ext cx="1397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57"/>
                <p:cNvSpPr/>
                <p:nvPr/>
              </p:nvSpPr>
              <p:spPr>
                <a:xfrm>
                  <a:off x="1205280" y="1644120"/>
                  <a:ext cx="150336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58"/>
              <p:cNvGrpSpPr/>
              <p:nvPr/>
            </p:nvGrpSpPr>
            <p:grpSpPr>
              <a:xfrm>
                <a:off x="2709000" y="1644120"/>
                <a:ext cx="1217160" cy="397800"/>
                <a:chOff x="2709000" y="1644120"/>
                <a:chExt cx="1217160" cy="397800"/>
              </a:xfrm>
            </p:grpSpPr>
            <p:sp>
              <p:nvSpPr>
                <p:cNvPr id="191" name="Rectangle 59"/>
                <p:cNvSpPr/>
                <p:nvPr/>
              </p:nvSpPr>
              <p:spPr>
                <a:xfrm>
                  <a:off x="2764440" y="1677960"/>
                  <a:ext cx="1106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4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60"/>
                <p:cNvSpPr/>
                <p:nvPr/>
              </p:nvSpPr>
              <p:spPr>
                <a:xfrm>
                  <a:off x="2709000" y="1644120"/>
                  <a:ext cx="121716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61"/>
              <p:cNvGrpSpPr/>
              <p:nvPr/>
            </p:nvGrpSpPr>
            <p:grpSpPr>
              <a:xfrm>
                <a:off x="3926880" y="1644120"/>
                <a:ext cx="1197720" cy="397800"/>
                <a:chOff x="3926880" y="1644120"/>
                <a:chExt cx="1197720" cy="397800"/>
              </a:xfrm>
            </p:grpSpPr>
            <p:sp>
              <p:nvSpPr>
                <p:cNvPr id="194" name="Rectangle 62"/>
                <p:cNvSpPr/>
                <p:nvPr/>
              </p:nvSpPr>
              <p:spPr>
                <a:xfrm>
                  <a:off x="3981960" y="1677960"/>
                  <a:ext cx="10875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63"/>
                <p:cNvSpPr/>
                <p:nvPr/>
              </p:nvSpPr>
              <p:spPr>
                <a:xfrm>
                  <a:off x="3926880" y="1644120"/>
                  <a:ext cx="119772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64"/>
              <p:cNvGrpSpPr/>
              <p:nvPr/>
            </p:nvGrpSpPr>
            <p:grpSpPr>
              <a:xfrm>
                <a:off x="5124960" y="1644120"/>
                <a:ext cx="1445040" cy="397800"/>
                <a:chOff x="5124960" y="1644120"/>
                <a:chExt cx="1445040" cy="397800"/>
              </a:xfrm>
            </p:grpSpPr>
            <p:sp>
              <p:nvSpPr>
                <p:cNvPr id="197" name="Rectangle 65"/>
                <p:cNvSpPr/>
                <p:nvPr/>
              </p:nvSpPr>
              <p:spPr>
                <a:xfrm>
                  <a:off x="5180400" y="1677960"/>
                  <a:ext cx="132732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66"/>
                <p:cNvSpPr/>
                <p:nvPr/>
              </p:nvSpPr>
              <p:spPr>
                <a:xfrm>
                  <a:off x="5124960" y="1644120"/>
                  <a:ext cx="144504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6570360" y="1644120"/>
                <a:ext cx="1350000" cy="397800"/>
                <a:chOff x="6570360" y="1644120"/>
                <a:chExt cx="1350000" cy="397800"/>
              </a:xfrm>
            </p:grpSpPr>
            <p:sp>
              <p:nvSpPr>
                <p:cNvPr id="200" name="Rectangle 68"/>
                <p:cNvSpPr/>
                <p:nvPr/>
              </p:nvSpPr>
              <p:spPr>
                <a:xfrm>
                  <a:off x="6621840" y="1677960"/>
                  <a:ext cx="124668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69"/>
                <p:cNvSpPr/>
                <p:nvPr/>
              </p:nvSpPr>
              <p:spPr>
                <a:xfrm>
                  <a:off x="6570360" y="1644120"/>
                  <a:ext cx="13500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70"/>
              <p:cNvGrpSpPr/>
              <p:nvPr/>
            </p:nvGrpSpPr>
            <p:grpSpPr>
              <a:xfrm>
                <a:off x="7921080" y="1644120"/>
                <a:ext cx="1216800" cy="397800"/>
                <a:chOff x="7921080" y="1644120"/>
                <a:chExt cx="1216800" cy="397800"/>
              </a:xfrm>
            </p:grpSpPr>
            <p:sp>
              <p:nvSpPr>
                <p:cNvPr id="203" name="Rectangle 71"/>
                <p:cNvSpPr/>
                <p:nvPr/>
              </p:nvSpPr>
              <p:spPr>
                <a:xfrm>
                  <a:off x="7976160" y="1677960"/>
                  <a:ext cx="1106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72"/>
                <p:cNvSpPr/>
                <p:nvPr/>
              </p:nvSpPr>
              <p:spPr>
                <a:xfrm>
                  <a:off x="7921080" y="1644120"/>
                  <a:ext cx="1216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73"/>
              <p:cNvGrpSpPr/>
              <p:nvPr/>
            </p:nvGrpSpPr>
            <p:grpSpPr>
              <a:xfrm>
                <a:off x="5040" y="2107080"/>
                <a:ext cx="1199880" cy="397800"/>
                <a:chOff x="5040" y="2107080"/>
                <a:chExt cx="1199880" cy="397800"/>
              </a:xfrm>
            </p:grpSpPr>
            <p:sp>
              <p:nvSpPr>
                <p:cNvPr id="206" name="Rectangle 74"/>
                <p:cNvSpPr/>
                <p:nvPr/>
              </p:nvSpPr>
              <p:spPr>
                <a:xfrm>
                  <a:off x="56520" y="2140920"/>
                  <a:ext cx="108828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3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75"/>
                <p:cNvSpPr/>
                <p:nvPr/>
              </p:nvSpPr>
              <p:spPr>
                <a:xfrm>
                  <a:off x="5040" y="2107080"/>
                  <a:ext cx="119988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76"/>
              <p:cNvGrpSpPr/>
              <p:nvPr/>
            </p:nvGrpSpPr>
            <p:grpSpPr>
              <a:xfrm>
                <a:off x="1205280" y="2107080"/>
                <a:ext cx="1503360" cy="397800"/>
                <a:chOff x="1205280" y="2107080"/>
                <a:chExt cx="1503360" cy="397800"/>
              </a:xfrm>
            </p:grpSpPr>
            <p:sp>
              <p:nvSpPr>
                <p:cNvPr id="209" name="Rectangle 77"/>
                <p:cNvSpPr/>
                <p:nvPr/>
              </p:nvSpPr>
              <p:spPr>
                <a:xfrm>
                  <a:off x="1256760" y="2140920"/>
                  <a:ext cx="1397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78"/>
                <p:cNvSpPr/>
                <p:nvPr/>
              </p:nvSpPr>
              <p:spPr>
                <a:xfrm>
                  <a:off x="1205280" y="2107080"/>
                  <a:ext cx="150336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79"/>
              <p:cNvGrpSpPr/>
              <p:nvPr/>
            </p:nvGrpSpPr>
            <p:grpSpPr>
              <a:xfrm>
                <a:off x="2709000" y="2107080"/>
                <a:ext cx="1217160" cy="397800"/>
                <a:chOff x="2709000" y="2107080"/>
                <a:chExt cx="1217160" cy="397800"/>
              </a:xfrm>
            </p:grpSpPr>
            <p:sp>
              <p:nvSpPr>
                <p:cNvPr id="212" name="Rectangle 80"/>
                <p:cNvSpPr/>
                <p:nvPr/>
              </p:nvSpPr>
              <p:spPr>
                <a:xfrm>
                  <a:off x="2764440" y="2140920"/>
                  <a:ext cx="1106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37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81"/>
                <p:cNvSpPr/>
                <p:nvPr/>
              </p:nvSpPr>
              <p:spPr>
                <a:xfrm>
                  <a:off x="2709000" y="2107080"/>
                  <a:ext cx="121716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82"/>
              <p:cNvGrpSpPr/>
              <p:nvPr/>
            </p:nvGrpSpPr>
            <p:grpSpPr>
              <a:xfrm>
                <a:off x="3926880" y="2107080"/>
                <a:ext cx="1197720" cy="397800"/>
                <a:chOff x="3926880" y="2107080"/>
                <a:chExt cx="1197720" cy="397800"/>
              </a:xfrm>
            </p:grpSpPr>
            <p:sp>
              <p:nvSpPr>
                <p:cNvPr id="215" name="Rectangle 83"/>
                <p:cNvSpPr/>
                <p:nvPr/>
              </p:nvSpPr>
              <p:spPr>
                <a:xfrm>
                  <a:off x="3981960" y="2140920"/>
                  <a:ext cx="10875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84"/>
                <p:cNvSpPr/>
                <p:nvPr/>
              </p:nvSpPr>
              <p:spPr>
                <a:xfrm>
                  <a:off x="3926880" y="2107080"/>
                  <a:ext cx="119772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85"/>
              <p:cNvGrpSpPr/>
              <p:nvPr/>
            </p:nvGrpSpPr>
            <p:grpSpPr>
              <a:xfrm>
                <a:off x="5124960" y="2107080"/>
                <a:ext cx="1445040" cy="397800"/>
                <a:chOff x="5124960" y="2107080"/>
                <a:chExt cx="1445040" cy="397800"/>
              </a:xfrm>
            </p:grpSpPr>
            <p:sp>
              <p:nvSpPr>
                <p:cNvPr id="218" name="Rectangle 86"/>
                <p:cNvSpPr/>
                <p:nvPr/>
              </p:nvSpPr>
              <p:spPr>
                <a:xfrm>
                  <a:off x="5180400" y="2140920"/>
                  <a:ext cx="132732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87"/>
                <p:cNvSpPr/>
                <p:nvPr/>
              </p:nvSpPr>
              <p:spPr>
                <a:xfrm>
                  <a:off x="5124960" y="2107080"/>
                  <a:ext cx="144504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88"/>
              <p:cNvGrpSpPr/>
              <p:nvPr/>
            </p:nvGrpSpPr>
            <p:grpSpPr>
              <a:xfrm>
                <a:off x="6570360" y="2107080"/>
                <a:ext cx="1350000" cy="397800"/>
                <a:chOff x="6570360" y="2107080"/>
                <a:chExt cx="1350000" cy="397800"/>
              </a:xfrm>
            </p:grpSpPr>
            <p:sp>
              <p:nvSpPr>
                <p:cNvPr id="221" name="Rectangle 89"/>
                <p:cNvSpPr/>
                <p:nvPr/>
              </p:nvSpPr>
              <p:spPr>
                <a:xfrm>
                  <a:off x="6621840" y="2140920"/>
                  <a:ext cx="124668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90"/>
                <p:cNvSpPr/>
                <p:nvPr/>
              </p:nvSpPr>
              <p:spPr>
                <a:xfrm>
                  <a:off x="6570360" y="2107080"/>
                  <a:ext cx="13500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91"/>
              <p:cNvGrpSpPr/>
              <p:nvPr/>
            </p:nvGrpSpPr>
            <p:grpSpPr>
              <a:xfrm>
                <a:off x="7921080" y="2107080"/>
                <a:ext cx="1216800" cy="397800"/>
                <a:chOff x="7921080" y="2107080"/>
                <a:chExt cx="1216800" cy="397800"/>
              </a:xfrm>
            </p:grpSpPr>
            <p:sp>
              <p:nvSpPr>
                <p:cNvPr id="224" name="Rectangle 92"/>
                <p:cNvSpPr/>
                <p:nvPr/>
              </p:nvSpPr>
              <p:spPr>
                <a:xfrm>
                  <a:off x="7976160" y="2140920"/>
                  <a:ext cx="1106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93"/>
                <p:cNvSpPr/>
                <p:nvPr/>
              </p:nvSpPr>
              <p:spPr>
                <a:xfrm>
                  <a:off x="7921080" y="2107080"/>
                  <a:ext cx="1216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94"/>
              <p:cNvGrpSpPr/>
              <p:nvPr/>
            </p:nvGrpSpPr>
            <p:grpSpPr>
              <a:xfrm>
                <a:off x="5040" y="2570400"/>
                <a:ext cx="1199880" cy="481680"/>
                <a:chOff x="5040" y="2570400"/>
                <a:chExt cx="1199880" cy="481680"/>
              </a:xfrm>
            </p:grpSpPr>
            <p:sp>
              <p:nvSpPr>
                <p:cNvPr id="227" name="Rectangle 95"/>
                <p:cNvSpPr/>
                <p:nvPr/>
              </p:nvSpPr>
              <p:spPr>
                <a:xfrm>
                  <a:off x="56520" y="2605320"/>
                  <a:ext cx="10882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4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96"/>
                <p:cNvSpPr/>
                <p:nvPr/>
              </p:nvSpPr>
              <p:spPr>
                <a:xfrm>
                  <a:off x="5040" y="257040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97"/>
              <p:cNvGrpSpPr/>
              <p:nvPr/>
            </p:nvGrpSpPr>
            <p:grpSpPr>
              <a:xfrm>
                <a:off x="1205280" y="2570400"/>
                <a:ext cx="1503360" cy="481680"/>
                <a:chOff x="1205280" y="2570400"/>
                <a:chExt cx="1503360" cy="481680"/>
              </a:xfrm>
            </p:grpSpPr>
            <p:sp>
              <p:nvSpPr>
                <p:cNvPr id="230" name="Rectangle 98"/>
                <p:cNvSpPr/>
                <p:nvPr/>
              </p:nvSpPr>
              <p:spPr>
                <a:xfrm>
                  <a:off x="1256760" y="2605320"/>
                  <a:ext cx="1397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99"/>
                <p:cNvSpPr/>
                <p:nvPr/>
              </p:nvSpPr>
              <p:spPr>
                <a:xfrm>
                  <a:off x="1205280" y="257040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100"/>
              <p:cNvGrpSpPr/>
              <p:nvPr/>
            </p:nvGrpSpPr>
            <p:grpSpPr>
              <a:xfrm>
                <a:off x="2709000" y="2570400"/>
                <a:ext cx="1217160" cy="481680"/>
                <a:chOff x="2709000" y="2570400"/>
                <a:chExt cx="1217160" cy="481680"/>
              </a:xfrm>
            </p:grpSpPr>
            <p:sp>
              <p:nvSpPr>
                <p:cNvPr id="233" name="Rectangle 101"/>
                <p:cNvSpPr/>
                <p:nvPr/>
              </p:nvSpPr>
              <p:spPr>
                <a:xfrm>
                  <a:off x="2764440" y="260532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 37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102"/>
                <p:cNvSpPr/>
                <p:nvPr/>
              </p:nvSpPr>
              <p:spPr>
                <a:xfrm>
                  <a:off x="2709000" y="257040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03"/>
              <p:cNvGrpSpPr/>
              <p:nvPr/>
            </p:nvGrpSpPr>
            <p:grpSpPr>
              <a:xfrm>
                <a:off x="3926880" y="2570400"/>
                <a:ext cx="1197720" cy="481680"/>
                <a:chOff x="3926880" y="2570400"/>
                <a:chExt cx="1197720" cy="481680"/>
              </a:xfrm>
            </p:grpSpPr>
            <p:sp>
              <p:nvSpPr>
                <p:cNvPr id="236" name="Rectangle 104"/>
                <p:cNvSpPr/>
                <p:nvPr/>
              </p:nvSpPr>
              <p:spPr>
                <a:xfrm>
                  <a:off x="3981960" y="2605320"/>
                  <a:ext cx="10875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02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105"/>
                <p:cNvSpPr/>
                <p:nvPr/>
              </p:nvSpPr>
              <p:spPr>
                <a:xfrm>
                  <a:off x="3926880" y="257040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106"/>
              <p:cNvGrpSpPr/>
              <p:nvPr/>
            </p:nvGrpSpPr>
            <p:grpSpPr>
              <a:xfrm>
                <a:off x="5124960" y="2570400"/>
                <a:ext cx="1445040" cy="481680"/>
                <a:chOff x="5124960" y="2570400"/>
                <a:chExt cx="1445040" cy="481680"/>
              </a:xfrm>
            </p:grpSpPr>
            <p:sp>
              <p:nvSpPr>
                <p:cNvPr id="239" name="Rectangle 107"/>
                <p:cNvSpPr/>
                <p:nvPr/>
              </p:nvSpPr>
              <p:spPr>
                <a:xfrm>
                  <a:off x="5180400" y="2605320"/>
                  <a:ext cx="13273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08"/>
                <p:cNvSpPr/>
                <p:nvPr/>
              </p:nvSpPr>
              <p:spPr>
                <a:xfrm>
                  <a:off x="5124960" y="257040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109"/>
              <p:cNvGrpSpPr/>
              <p:nvPr/>
            </p:nvGrpSpPr>
            <p:grpSpPr>
              <a:xfrm>
                <a:off x="6570360" y="2570400"/>
                <a:ext cx="1350000" cy="481680"/>
                <a:chOff x="6570360" y="2570400"/>
                <a:chExt cx="1350000" cy="481680"/>
              </a:xfrm>
            </p:grpSpPr>
            <p:sp>
              <p:nvSpPr>
                <p:cNvPr id="242" name="Rectangle 110"/>
                <p:cNvSpPr/>
                <p:nvPr/>
              </p:nvSpPr>
              <p:spPr>
                <a:xfrm>
                  <a:off x="6621840" y="2605320"/>
                  <a:ext cx="12466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3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111"/>
                <p:cNvSpPr/>
                <p:nvPr/>
              </p:nvSpPr>
              <p:spPr>
                <a:xfrm>
                  <a:off x="6570360" y="257040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12"/>
              <p:cNvGrpSpPr/>
              <p:nvPr/>
            </p:nvGrpSpPr>
            <p:grpSpPr>
              <a:xfrm>
                <a:off x="7921080" y="2570400"/>
                <a:ext cx="1216800" cy="481680"/>
                <a:chOff x="7921080" y="2570400"/>
                <a:chExt cx="1216800" cy="481680"/>
              </a:xfrm>
            </p:grpSpPr>
            <p:sp>
              <p:nvSpPr>
                <p:cNvPr id="245" name="Rectangle 113"/>
                <p:cNvSpPr/>
                <p:nvPr/>
              </p:nvSpPr>
              <p:spPr>
                <a:xfrm>
                  <a:off x="7976160" y="260532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14"/>
                <p:cNvSpPr/>
                <p:nvPr/>
              </p:nvSpPr>
              <p:spPr>
                <a:xfrm>
                  <a:off x="7921080" y="257040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15"/>
              <p:cNvGrpSpPr/>
              <p:nvPr/>
            </p:nvGrpSpPr>
            <p:grpSpPr>
              <a:xfrm>
                <a:off x="5040" y="3117600"/>
                <a:ext cx="1199880" cy="481680"/>
                <a:chOff x="5040" y="3117600"/>
                <a:chExt cx="1199880" cy="481680"/>
              </a:xfrm>
            </p:grpSpPr>
            <p:sp>
              <p:nvSpPr>
                <p:cNvPr id="248" name="Rectangle 116"/>
                <p:cNvSpPr/>
                <p:nvPr/>
              </p:nvSpPr>
              <p:spPr>
                <a:xfrm>
                  <a:off x="56520" y="3151440"/>
                  <a:ext cx="10882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5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117"/>
                <p:cNvSpPr/>
                <p:nvPr/>
              </p:nvSpPr>
              <p:spPr>
                <a:xfrm>
                  <a:off x="5040" y="311760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118"/>
              <p:cNvGrpSpPr/>
              <p:nvPr/>
            </p:nvGrpSpPr>
            <p:grpSpPr>
              <a:xfrm>
                <a:off x="1205280" y="3117600"/>
                <a:ext cx="1503360" cy="481680"/>
                <a:chOff x="1205280" y="3117600"/>
                <a:chExt cx="1503360" cy="481680"/>
              </a:xfrm>
            </p:grpSpPr>
            <p:sp>
              <p:nvSpPr>
                <p:cNvPr id="251" name="Rectangle 119"/>
                <p:cNvSpPr/>
                <p:nvPr/>
              </p:nvSpPr>
              <p:spPr>
                <a:xfrm>
                  <a:off x="1256760" y="3151440"/>
                  <a:ext cx="139716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0"/>
                <p:cNvSpPr/>
                <p:nvPr/>
              </p:nvSpPr>
              <p:spPr>
                <a:xfrm>
                  <a:off x="1205280" y="311760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121"/>
              <p:cNvGrpSpPr/>
              <p:nvPr/>
            </p:nvGrpSpPr>
            <p:grpSpPr>
              <a:xfrm>
                <a:off x="2709000" y="3117600"/>
                <a:ext cx="1217160" cy="481680"/>
                <a:chOff x="2709000" y="3117600"/>
                <a:chExt cx="1217160" cy="481680"/>
              </a:xfrm>
            </p:grpSpPr>
            <p:sp>
              <p:nvSpPr>
                <p:cNvPr id="254" name="Rectangle 122"/>
                <p:cNvSpPr/>
                <p:nvPr/>
              </p:nvSpPr>
              <p:spPr>
                <a:xfrm>
                  <a:off x="2764440" y="3151440"/>
                  <a:ext cx="1106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3 7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123"/>
                <p:cNvSpPr/>
                <p:nvPr/>
              </p:nvSpPr>
              <p:spPr>
                <a:xfrm>
                  <a:off x="2709000" y="311760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124"/>
              <p:cNvGrpSpPr/>
              <p:nvPr/>
            </p:nvGrpSpPr>
            <p:grpSpPr>
              <a:xfrm>
                <a:off x="3926880" y="3117600"/>
                <a:ext cx="1197720" cy="481680"/>
                <a:chOff x="3926880" y="3117600"/>
                <a:chExt cx="1197720" cy="481680"/>
              </a:xfrm>
            </p:grpSpPr>
            <p:sp>
              <p:nvSpPr>
                <p:cNvPr id="257" name="Rectangle 125"/>
                <p:cNvSpPr/>
                <p:nvPr/>
              </p:nvSpPr>
              <p:spPr>
                <a:xfrm>
                  <a:off x="3981960" y="3151440"/>
                  <a:ext cx="108756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 2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26"/>
                <p:cNvSpPr/>
                <p:nvPr/>
              </p:nvSpPr>
              <p:spPr>
                <a:xfrm>
                  <a:off x="3926880" y="311760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127"/>
              <p:cNvGrpSpPr/>
              <p:nvPr/>
            </p:nvGrpSpPr>
            <p:grpSpPr>
              <a:xfrm>
                <a:off x="5124960" y="3117600"/>
                <a:ext cx="1445040" cy="481680"/>
                <a:chOff x="5124960" y="3117600"/>
                <a:chExt cx="1445040" cy="481680"/>
              </a:xfrm>
            </p:grpSpPr>
            <p:sp>
              <p:nvSpPr>
                <p:cNvPr id="260" name="Rectangle 128"/>
                <p:cNvSpPr/>
                <p:nvPr/>
              </p:nvSpPr>
              <p:spPr>
                <a:xfrm>
                  <a:off x="5180400" y="3151440"/>
                  <a:ext cx="132732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 52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29"/>
                <p:cNvSpPr/>
                <p:nvPr/>
              </p:nvSpPr>
              <p:spPr>
                <a:xfrm>
                  <a:off x="5124960" y="311760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130"/>
              <p:cNvGrpSpPr/>
              <p:nvPr/>
            </p:nvGrpSpPr>
            <p:grpSpPr>
              <a:xfrm>
                <a:off x="6570360" y="3117600"/>
                <a:ext cx="1350000" cy="481680"/>
                <a:chOff x="6570360" y="3117600"/>
                <a:chExt cx="1350000" cy="481680"/>
              </a:xfrm>
            </p:grpSpPr>
            <p:sp>
              <p:nvSpPr>
                <p:cNvPr id="263" name="Rectangle 131"/>
                <p:cNvSpPr/>
                <p:nvPr/>
              </p:nvSpPr>
              <p:spPr>
                <a:xfrm>
                  <a:off x="6621840" y="3151440"/>
                  <a:ext cx="12466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32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32"/>
                <p:cNvSpPr/>
                <p:nvPr/>
              </p:nvSpPr>
              <p:spPr>
                <a:xfrm>
                  <a:off x="6570360" y="311760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133"/>
              <p:cNvGrpSpPr/>
              <p:nvPr/>
            </p:nvGrpSpPr>
            <p:grpSpPr>
              <a:xfrm>
                <a:off x="7921080" y="3117600"/>
                <a:ext cx="1216800" cy="481680"/>
                <a:chOff x="7921080" y="3117600"/>
                <a:chExt cx="1216800" cy="481680"/>
              </a:xfrm>
            </p:grpSpPr>
            <p:sp>
              <p:nvSpPr>
                <p:cNvPr id="266" name="Rectangle 134"/>
                <p:cNvSpPr/>
                <p:nvPr/>
              </p:nvSpPr>
              <p:spPr>
                <a:xfrm>
                  <a:off x="7976160" y="3151440"/>
                  <a:ext cx="1106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9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135"/>
                <p:cNvSpPr/>
                <p:nvPr/>
              </p:nvSpPr>
              <p:spPr>
                <a:xfrm>
                  <a:off x="7921080" y="311760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136"/>
              <p:cNvGrpSpPr/>
              <p:nvPr/>
            </p:nvGrpSpPr>
            <p:grpSpPr>
              <a:xfrm>
                <a:off x="5040" y="3664800"/>
                <a:ext cx="1199880" cy="481680"/>
                <a:chOff x="5040" y="3664800"/>
                <a:chExt cx="1199880" cy="481680"/>
              </a:xfrm>
            </p:grpSpPr>
            <p:sp>
              <p:nvSpPr>
                <p:cNvPr id="269" name="Rectangle 137"/>
                <p:cNvSpPr/>
                <p:nvPr/>
              </p:nvSpPr>
              <p:spPr>
                <a:xfrm>
                  <a:off x="56520" y="3698280"/>
                  <a:ext cx="10882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6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38"/>
                <p:cNvSpPr/>
                <p:nvPr/>
              </p:nvSpPr>
              <p:spPr>
                <a:xfrm>
                  <a:off x="5040" y="366480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139"/>
              <p:cNvGrpSpPr/>
              <p:nvPr/>
            </p:nvGrpSpPr>
            <p:grpSpPr>
              <a:xfrm>
                <a:off x="1205280" y="3664800"/>
                <a:ext cx="1503360" cy="481680"/>
                <a:chOff x="1205280" y="3664800"/>
                <a:chExt cx="1503360" cy="481680"/>
              </a:xfrm>
            </p:grpSpPr>
            <p:sp>
              <p:nvSpPr>
                <p:cNvPr id="272" name="Rectangle 140"/>
                <p:cNvSpPr/>
                <p:nvPr/>
              </p:nvSpPr>
              <p:spPr>
                <a:xfrm>
                  <a:off x="1256760" y="3698280"/>
                  <a:ext cx="1397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 00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41"/>
                <p:cNvSpPr/>
                <p:nvPr/>
              </p:nvSpPr>
              <p:spPr>
                <a:xfrm>
                  <a:off x="1205280" y="366480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42"/>
              <p:cNvGrpSpPr/>
              <p:nvPr/>
            </p:nvGrpSpPr>
            <p:grpSpPr>
              <a:xfrm>
                <a:off x="2709000" y="3664800"/>
                <a:ext cx="1217160" cy="481680"/>
                <a:chOff x="2709000" y="3664800"/>
                <a:chExt cx="1217160" cy="481680"/>
              </a:xfrm>
            </p:grpSpPr>
            <p:sp>
              <p:nvSpPr>
                <p:cNvPr id="275" name="Rectangle 143"/>
                <p:cNvSpPr/>
                <p:nvPr/>
              </p:nvSpPr>
              <p:spPr>
                <a:xfrm>
                  <a:off x="2764440" y="3698280"/>
                  <a:ext cx="1106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37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144"/>
                <p:cNvSpPr/>
                <p:nvPr/>
              </p:nvSpPr>
              <p:spPr>
                <a:xfrm>
                  <a:off x="2709000" y="366480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5"/>
              <p:cNvGrpSpPr/>
              <p:nvPr/>
            </p:nvGrpSpPr>
            <p:grpSpPr>
              <a:xfrm>
                <a:off x="3926880" y="3664800"/>
                <a:ext cx="1197720" cy="481680"/>
                <a:chOff x="3926880" y="3664800"/>
                <a:chExt cx="1197720" cy="481680"/>
              </a:xfrm>
            </p:grpSpPr>
            <p:sp>
              <p:nvSpPr>
                <p:cNvPr id="278" name="Rectangle 146"/>
                <p:cNvSpPr/>
                <p:nvPr/>
              </p:nvSpPr>
              <p:spPr>
                <a:xfrm>
                  <a:off x="3981960" y="3698280"/>
                  <a:ext cx="10875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2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47"/>
                <p:cNvSpPr/>
                <p:nvPr/>
              </p:nvSpPr>
              <p:spPr>
                <a:xfrm>
                  <a:off x="3926880" y="366480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148"/>
              <p:cNvGrpSpPr/>
              <p:nvPr/>
            </p:nvGrpSpPr>
            <p:grpSpPr>
              <a:xfrm>
                <a:off x="5124960" y="3664800"/>
                <a:ext cx="1445040" cy="481680"/>
                <a:chOff x="5124960" y="3664800"/>
                <a:chExt cx="1445040" cy="481680"/>
              </a:xfrm>
            </p:grpSpPr>
            <p:sp>
              <p:nvSpPr>
                <p:cNvPr id="281" name="Rectangle 149"/>
                <p:cNvSpPr/>
                <p:nvPr/>
              </p:nvSpPr>
              <p:spPr>
                <a:xfrm>
                  <a:off x="5180400" y="3698280"/>
                  <a:ext cx="132732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 2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50"/>
                <p:cNvSpPr/>
                <p:nvPr/>
              </p:nvSpPr>
              <p:spPr>
                <a:xfrm>
                  <a:off x="5124960" y="366480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51"/>
              <p:cNvGrpSpPr/>
              <p:nvPr/>
            </p:nvGrpSpPr>
            <p:grpSpPr>
              <a:xfrm>
                <a:off x="6570360" y="3664800"/>
                <a:ext cx="1350000" cy="481680"/>
                <a:chOff x="6570360" y="3664800"/>
                <a:chExt cx="1350000" cy="481680"/>
              </a:xfrm>
            </p:grpSpPr>
            <p:sp>
              <p:nvSpPr>
                <p:cNvPr id="284" name="Rectangle 152"/>
                <p:cNvSpPr/>
                <p:nvPr/>
              </p:nvSpPr>
              <p:spPr>
                <a:xfrm>
                  <a:off x="6621840" y="3698280"/>
                  <a:ext cx="12466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 32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153"/>
                <p:cNvSpPr/>
                <p:nvPr/>
              </p:nvSpPr>
              <p:spPr>
                <a:xfrm>
                  <a:off x="6570360" y="366480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54"/>
              <p:cNvGrpSpPr/>
              <p:nvPr/>
            </p:nvGrpSpPr>
            <p:grpSpPr>
              <a:xfrm>
                <a:off x="7921080" y="3664800"/>
                <a:ext cx="1216800" cy="481680"/>
                <a:chOff x="7921080" y="3664800"/>
                <a:chExt cx="1216800" cy="481680"/>
              </a:xfrm>
            </p:grpSpPr>
            <p:sp>
              <p:nvSpPr>
                <p:cNvPr id="287" name="Rectangle 155"/>
                <p:cNvSpPr/>
                <p:nvPr/>
              </p:nvSpPr>
              <p:spPr>
                <a:xfrm>
                  <a:off x="7976160" y="3698280"/>
                  <a:ext cx="1106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93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156"/>
                <p:cNvSpPr/>
                <p:nvPr/>
              </p:nvSpPr>
              <p:spPr>
                <a:xfrm>
                  <a:off x="7921080" y="366480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57"/>
              <p:cNvGrpSpPr/>
              <p:nvPr/>
            </p:nvGrpSpPr>
            <p:grpSpPr>
              <a:xfrm>
                <a:off x="5040" y="4211640"/>
                <a:ext cx="1199880" cy="481680"/>
                <a:chOff x="5040" y="4211640"/>
                <a:chExt cx="1199880" cy="481680"/>
              </a:xfrm>
            </p:grpSpPr>
            <p:sp>
              <p:nvSpPr>
                <p:cNvPr id="290" name="Rectangle 158"/>
                <p:cNvSpPr/>
                <p:nvPr/>
              </p:nvSpPr>
              <p:spPr>
                <a:xfrm>
                  <a:off x="56520" y="4244040"/>
                  <a:ext cx="10882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7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59"/>
                <p:cNvSpPr/>
                <p:nvPr/>
              </p:nvSpPr>
              <p:spPr>
                <a:xfrm>
                  <a:off x="5040" y="421164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60"/>
              <p:cNvGrpSpPr/>
              <p:nvPr/>
            </p:nvGrpSpPr>
            <p:grpSpPr>
              <a:xfrm>
                <a:off x="1205280" y="4211640"/>
                <a:ext cx="1503360" cy="481680"/>
                <a:chOff x="1205280" y="4211640"/>
                <a:chExt cx="1503360" cy="481680"/>
              </a:xfrm>
            </p:grpSpPr>
            <p:sp>
              <p:nvSpPr>
                <p:cNvPr id="293" name="Rectangle 161"/>
                <p:cNvSpPr/>
                <p:nvPr/>
              </p:nvSpPr>
              <p:spPr>
                <a:xfrm>
                  <a:off x="1256760" y="4244040"/>
                  <a:ext cx="1397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62"/>
                <p:cNvSpPr/>
                <p:nvPr/>
              </p:nvSpPr>
              <p:spPr>
                <a:xfrm>
                  <a:off x="1205280" y="421164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63"/>
              <p:cNvGrpSpPr/>
              <p:nvPr/>
            </p:nvGrpSpPr>
            <p:grpSpPr>
              <a:xfrm>
                <a:off x="2709000" y="4211640"/>
                <a:ext cx="1217160" cy="481680"/>
                <a:chOff x="2709000" y="4211640"/>
                <a:chExt cx="1217160" cy="481680"/>
              </a:xfrm>
            </p:grpSpPr>
            <p:sp>
              <p:nvSpPr>
                <p:cNvPr id="296" name="Rectangle 164"/>
                <p:cNvSpPr/>
                <p:nvPr/>
              </p:nvSpPr>
              <p:spPr>
                <a:xfrm>
                  <a:off x="2764440" y="424404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65"/>
                <p:cNvSpPr/>
                <p:nvPr/>
              </p:nvSpPr>
              <p:spPr>
                <a:xfrm>
                  <a:off x="2709000" y="421164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66"/>
              <p:cNvGrpSpPr/>
              <p:nvPr/>
            </p:nvGrpSpPr>
            <p:grpSpPr>
              <a:xfrm>
                <a:off x="3926880" y="4211640"/>
                <a:ext cx="1197720" cy="481680"/>
                <a:chOff x="3926880" y="4211640"/>
                <a:chExt cx="1197720" cy="481680"/>
              </a:xfrm>
            </p:grpSpPr>
            <p:sp>
              <p:nvSpPr>
                <p:cNvPr id="299" name="Rectangle 167"/>
                <p:cNvSpPr/>
                <p:nvPr/>
              </p:nvSpPr>
              <p:spPr>
                <a:xfrm>
                  <a:off x="3981960" y="4244040"/>
                  <a:ext cx="10875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68"/>
                <p:cNvSpPr/>
                <p:nvPr/>
              </p:nvSpPr>
              <p:spPr>
                <a:xfrm>
                  <a:off x="3926880" y="421164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169"/>
              <p:cNvGrpSpPr/>
              <p:nvPr/>
            </p:nvGrpSpPr>
            <p:grpSpPr>
              <a:xfrm>
                <a:off x="5124960" y="4211640"/>
                <a:ext cx="1445040" cy="481680"/>
                <a:chOff x="5124960" y="4211640"/>
                <a:chExt cx="1445040" cy="481680"/>
              </a:xfrm>
            </p:grpSpPr>
            <p:sp>
              <p:nvSpPr>
                <p:cNvPr id="302" name="Rectangle 170"/>
                <p:cNvSpPr/>
                <p:nvPr/>
              </p:nvSpPr>
              <p:spPr>
                <a:xfrm>
                  <a:off x="5180400" y="4244040"/>
                  <a:ext cx="13273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2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171"/>
                <p:cNvSpPr/>
                <p:nvPr/>
              </p:nvSpPr>
              <p:spPr>
                <a:xfrm>
                  <a:off x="5124960" y="421164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172"/>
              <p:cNvGrpSpPr/>
              <p:nvPr/>
            </p:nvGrpSpPr>
            <p:grpSpPr>
              <a:xfrm>
                <a:off x="6570360" y="4211640"/>
                <a:ext cx="1350000" cy="481680"/>
                <a:chOff x="6570360" y="4211640"/>
                <a:chExt cx="1350000" cy="481680"/>
              </a:xfrm>
            </p:grpSpPr>
            <p:sp>
              <p:nvSpPr>
                <p:cNvPr id="305" name="Rectangle 173"/>
                <p:cNvSpPr/>
                <p:nvPr/>
              </p:nvSpPr>
              <p:spPr>
                <a:xfrm>
                  <a:off x="6621840" y="4244040"/>
                  <a:ext cx="124668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3 2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174"/>
                <p:cNvSpPr/>
                <p:nvPr/>
              </p:nvSpPr>
              <p:spPr>
                <a:xfrm>
                  <a:off x="6570360" y="421164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175"/>
              <p:cNvGrpSpPr/>
              <p:nvPr/>
            </p:nvGrpSpPr>
            <p:grpSpPr>
              <a:xfrm>
                <a:off x="7921080" y="4211640"/>
                <a:ext cx="1216800" cy="481680"/>
                <a:chOff x="7921080" y="4211640"/>
                <a:chExt cx="1216800" cy="481680"/>
              </a:xfrm>
            </p:grpSpPr>
            <p:sp>
              <p:nvSpPr>
                <p:cNvPr id="308" name="Rectangle 176"/>
                <p:cNvSpPr/>
                <p:nvPr/>
              </p:nvSpPr>
              <p:spPr>
                <a:xfrm>
                  <a:off x="7976160" y="4244040"/>
                  <a:ext cx="110664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 93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177"/>
                <p:cNvSpPr/>
                <p:nvPr/>
              </p:nvSpPr>
              <p:spPr>
                <a:xfrm>
                  <a:off x="7921080" y="421164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78"/>
              <p:cNvGrpSpPr/>
              <p:nvPr/>
            </p:nvGrpSpPr>
            <p:grpSpPr>
              <a:xfrm>
                <a:off x="5040" y="4758840"/>
                <a:ext cx="1199880" cy="481680"/>
                <a:chOff x="5040" y="4758840"/>
                <a:chExt cx="1199880" cy="481680"/>
              </a:xfrm>
            </p:grpSpPr>
            <p:sp>
              <p:nvSpPr>
                <p:cNvPr id="311" name="Rectangle 179"/>
                <p:cNvSpPr/>
                <p:nvPr/>
              </p:nvSpPr>
              <p:spPr>
                <a:xfrm>
                  <a:off x="56520" y="4792680"/>
                  <a:ext cx="10882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8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80"/>
                <p:cNvSpPr/>
                <p:nvPr/>
              </p:nvSpPr>
              <p:spPr>
                <a:xfrm>
                  <a:off x="5040" y="475884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Group 181"/>
              <p:cNvGrpSpPr/>
              <p:nvPr/>
            </p:nvGrpSpPr>
            <p:grpSpPr>
              <a:xfrm>
                <a:off x="1205280" y="4758840"/>
                <a:ext cx="1503360" cy="481680"/>
                <a:chOff x="1205280" y="4758840"/>
                <a:chExt cx="1503360" cy="481680"/>
              </a:xfrm>
            </p:grpSpPr>
            <p:sp>
              <p:nvSpPr>
                <p:cNvPr id="314" name="Rectangle 182"/>
                <p:cNvSpPr/>
                <p:nvPr/>
              </p:nvSpPr>
              <p:spPr>
                <a:xfrm>
                  <a:off x="1256760" y="4792680"/>
                  <a:ext cx="139716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183"/>
                <p:cNvSpPr/>
                <p:nvPr/>
              </p:nvSpPr>
              <p:spPr>
                <a:xfrm>
                  <a:off x="1205280" y="475884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184"/>
              <p:cNvGrpSpPr/>
              <p:nvPr/>
            </p:nvGrpSpPr>
            <p:grpSpPr>
              <a:xfrm>
                <a:off x="2709000" y="4758840"/>
                <a:ext cx="1217160" cy="481680"/>
                <a:chOff x="2709000" y="4758840"/>
                <a:chExt cx="1217160" cy="481680"/>
              </a:xfrm>
            </p:grpSpPr>
            <p:sp>
              <p:nvSpPr>
                <p:cNvPr id="317" name="Rectangle 185"/>
                <p:cNvSpPr/>
                <p:nvPr/>
              </p:nvSpPr>
              <p:spPr>
                <a:xfrm>
                  <a:off x="2764440" y="4792680"/>
                  <a:ext cx="1106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186"/>
                <p:cNvSpPr/>
                <p:nvPr/>
              </p:nvSpPr>
              <p:spPr>
                <a:xfrm>
                  <a:off x="2709000" y="475884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87"/>
              <p:cNvGrpSpPr/>
              <p:nvPr/>
            </p:nvGrpSpPr>
            <p:grpSpPr>
              <a:xfrm>
                <a:off x="3926880" y="4758840"/>
                <a:ext cx="1197720" cy="481680"/>
                <a:chOff x="3926880" y="4758840"/>
                <a:chExt cx="1197720" cy="481680"/>
              </a:xfrm>
            </p:grpSpPr>
            <p:sp>
              <p:nvSpPr>
                <p:cNvPr id="320" name="Rectangle 188"/>
                <p:cNvSpPr/>
                <p:nvPr/>
              </p:nvSpPr>
              <p:spPr>
                <a:xfrm>
                  <a:off x="3981960" y="4792680"/>
                  <a:ext cx="108756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89"/>
                <p:cNvSpPr/>
                <p:nvPr/>
              </p:nvSpPr>
              <p:spPr>
                <a:xfrm>
                  <a:off x="3926880" y="475884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90"/>
              <p:cNvGrpSpPr/>
              <p:nvPr/>
            </p:nvGrpSpPr>
            <p:grpSpPr>
              <a:xfrm>
                <a:off x="5124960" y="4758840"/>
                <a:ext cx="1445040" cy="481680"/>
                <a:chOff x="5124960" y="4758840"/>
                <a:chExt cx="1445040" cy="481680"/>
              </a:xfrm>
            </p:grpSpPr>
            <p:sp>
              <p:nvSpPr>
                <p:cNvPr id="323" name="Rectangle 191"/>
                <p:cNvSpPr/>
                <p:nvPr/>
              </p:nvSpPr>
              <p:spPr>
                <a:xfrm>
                  <a:off x="5180400" y="4792680"/>
                  <a:ext cx="132732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 52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92"/>
                <p:cNvSpPr/>
                <p:nvPr/>
              </p:nvSpPr>
              <p:spPr>
                <a:xfrm>
                  <a:off x="5124960" y="475884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193"/>
              <p:cNvGrpSpPr/>
              <p:nvPr/>
            </p:nvGrpSpPr>
            <p:grpSpPr>
              <a:xfrm>
                <a:off x="6570360" y="4758840"/>
                <a:ext cx="1350000" cy="481680"/>
                <a:chOff x="6570360" y="4758840"/>
                <a:chExt cx="1350000" cy="481680"/>
              </a:xfrm>
            </p:grpSpPr>
            <p:sp>
              <p:nvSpPr>
                <p:cNvPr id="326" name="Rectangle 194"/>
                <p:cNvSpPr/>
                <p:nvPr/>
              </p:nvSpPr>
              <p:spPr>
                <a:xfrm>
                  <a:off x="6621840" y="4792680"/>
                  <a:ext cx="12466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32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95"/>
                <p:cNvSpPr/>
                <p:nvPr/>
              </p:nvSpPr>
              <p:spPr>
                <a:xfrm>
                  <a:off x="6570360" y="475884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196"/>
              <p:cNvGrpSpPr/>
              <p:nvPr/>
            </p:nvGrpSpPr>
            <p:grpSpPr>
              <a:xfrm>
                <a:off x="7921080" y="4758840"/>
                <a:ext cx="1216800" cy="481680"/>
                <a:chOff x="7921080" y="4758840"/>
                <a:chExt cx="1216800" cy="481680"/>
              </a:xfrm>
            </p:grpSpPr>
            <p:sp>
              <p:nvSpPr>
                <p:cNvPr id="329" name="Rectangle 197"/>
                <p:cNvSpPr/>
                <p:nvPr/>
              </p:nvSpPr>
              <p:spPr>
                <a:xfrm>
                  <a:off x="7976160" y="4792680"/>
                  <a:ext cx="1106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9 3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98"/>
                <p:cNvSpPr/>
                <p:nvPr/>
              </p:nvSpPr>
              <p:spPr>
                <a:xfrm>
                  <a:off x="7921080" y="475884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99"/>
              <p:cNvGrpSpPr/>
              <p:nvPr/>
            </p:nvGrpSpPr>
            <p:grpSpPr>
              <a:xfrm>
                <a:off x="5040" y="5306040"/>
                <a:ext cx="1199880" cy="481680"/>
                <a:chOff x="5040" y="5306040"/>
                <a:chExt cx="1199880" cy="481680"/>
              </a:xfrm>
            </p:grpSpPr>
            <p:sp>
              <p:nvSpPr>
                <p:cNvPr id="332" name="Rectangle 200"/>
                <p:cNvSpPr/>
                <p:nvPr/>
              </p:nvSpPr>
              <p:spPr>
                <a:xfrm>
                  <a:off x="56520" y="5337360"/>
                  <a:ext cx="10882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SO 9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01"/>
                <p:cNvSpPr/>
                <p:nvPr/>
              </p:nvSpPr>
              <p:spPr>
                <a:xfrm>
                  <a:off x="5040" y="5306040"/>
                  <a:ext cx="119988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02"/>
              <p:cNvGrpSpPr/>
              <p:nvPr/>
            </p:nvGrpSpPr>
            <p:grpSpPr>
              <a:xfrm>
                <a:off x="1205280" y="5306040"/>
                <a:ext cx="1503360" cy="481680"/>
                <a:chOff x="1205280" y="5306040"/>
                <a:chExt cx="1503360" cy="481680"/>
              </a:xfrm>
            </p:grpSpPr>
            <p:sp>
              <p:nvSpPr>
                <p:cNvPr id="335" name="Rectangle 203"/>
                <p:cNvSpPr/>
                <p:nvPr/>
              </p:nvSpPr>
              <p:spPr>
                <a:xfrm>
                  <a:off x="1256760" y="5337360"/>
                  <a:ext cx="1397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204"/>
                <p:cNvSpPr/>
                <p:nvPr/>
              </p:nvSpPr>
              <p:spPr>
                <a:xfrm>
                  <a:off x="1205280" y="5306040"/>
                  <a:ext cx="15033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205"/>
              <p:cNvGrpSpPr/>
              <p:nvPr/>
            </p:nvGrpSpPr>
            <p:grpSpPr>
              <a:xfrm>
                <a:off x="2709000" y="5306040"/>
                <a:ext cx="1217160" cy="481680"/>
                <a:chOff x="2709000" y="5306040"/>
                <a:chExt cx="1217160" cy="481680"/>
              </a:xfrm>
            </p:grpSpPr>
            <p:sp>
              <p:nvSpPr>
                <p:cNvPr id="338" name="Rectangle 206"/>
                <p:cNvSpPr/>
                <p:nvPr/>
              </p:nvSpPr>
              <p:spPr>
                <a:xfrm>
                  <a:off x="2764440" y="5337360"/>
                  <a:ext cx="1106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07"/>
                <p:cNvSpPr/>
                <p:nvPr/>
              </p:nvSpPr>
              <p:spPr>
                <a:xfrm>
                  <a:off x="2709000" y="5306040"/>
                  <a:ext cx="121716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208"/>
              <p:cNvGrpSpPr/>
              <p:nvPr/>
            </p:nvGrpSpPr>
            <p:grpSpPr>
              <a:xfrm>
                <a:off x="3926880" y="5306040"/>
                <a:ext cx="1197720" cy="481680"/>
                <a:chOff x="3926880" y="5306040"/>
                <a:chExt cx="1197720" cy="481680"/>
              </a:xfrm>
            </p:grpSpPr>
            <p:sp>
              <p:nvSpPr>
                <p:cNvPr id="341" name="Rectangle 209"/>
                <p:cNvSpPr/>
                <p:nvPr/>
              </p:nvSpPr>
              <p:spPr>
                <a:xfrm>
                  <a:off x="3981960" y="5337360"/>
                  <a:ext cx="10875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  </a:t>
                  </a: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210"/>
                <p:cNvSpPr/>
                <p:nvPr/>
              </p:nvSpPr>
              <p:spPr>
                <a:xfrm>
                  <a:off x="3926880" y="5306040"/>
                  <a:ext cx="119772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211"/>
              <p:cNvGrpSpPr/>
              <p:nvPr/>
            </p:nvGrpSpPr>
            <p:grpSpPr>
              <a:xfrm>
                <a:off x="5124960" y="5306040"/>
                <a:ext cx="1445040" cy="481680"/>
                <a:chOff x="5124960" y="5306040"/>
                <a:chExt cx="1445040" cy="481680"/>
              </a:xfrm>
            </p:grpSpPr>
            <p:sp>
              <p:nvSpPr>
                <p:cNvPr id="344" name="Rectangle 212"/>
                <p:cNvSpPr/>
                <p:nvPr/>
              </p:nvSpPr>
              <p:spPr>
                <a:xfrm>
                  <a:off x="5180400" y="5337360"/>
                  <a:ext cx="132732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5 20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13"/>
                <p:cNvSpPr/>
                <p:nvPr/>
              </p:nvSpPr>
              <p:spPr>
                <a:xfrm>
                  <a:off x="5124960" y="5306040"/>
                  <a:ext cx="144504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214"/>
              <p:cNvGrpSpPr/>
              <p:nvPr/>
            </p:nvGrpSpPr>
            <p:grpSpPr>
              <a:xfrm>
                <a:off x="6570360" y="5306040"/>
                <a:ext cx="1350000" cy="481680"/>
                <a:chOff x="6570360" y="5306040"/>
                <a:chExt cx="1350000" cy="481680"/>
              </a:xfrm>
            </p:grpSpPr>
            <p:sp>
              <p:nvSpPr>
                <p:cNvPr id="347" name="Rectangle 215"/>
                <p:cNvSpPr/>
                <p:nvPr/>
              </p:nvSpPr>
              <p:spPr>
                <a:xfrm>
                  <a:off x="6621840" y="5337360"/>
                  <a:ext cx="124668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 320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216"/>
                <p:cNvSpPr/>
                <p:nvPr/>
              </p:nvSpPr>
              <p:spPr>
                <a:xfrm>
                  <a:off x="6570360" y="5306040"/>
                  <a:ext cx="13500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217"/>
              <p:cNvGrpSpPr/>
              <p:nvPr/>
            </p:nvGrpSpPr>
            <p:grpSpPr>
              <a:xfrm>
                <a:off x="7921080" y="5306040"/>
                <a:ext cx="1216800" cy="481680"/>
                <a:chOff x="7921080" y="5306040"/>
                <a:chExt cx="1216800" cy="481680"/>
              </a:xfrm>
            </p:grpSpPr>
            <p:sp>
              <p:nvSpPr>
                <p:cNvPr id="350" name="Rectangle 218"/>
                <p:cNvSpPr/>
                <p:nvPr/>
              </p:nvSpPr>
              <p:spPr>
                <a:xfrm>
                  <a:off x="7976160" y="5337360"/>
                  <a:ext cx="1106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93 000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219"/>
                <p:cNvSpPr/>
                <p:nvPr/>
              </p:nvSpPr>
              <p:spPr>
                <a:xfrm>
                  <a:off x="7921080" y="5306040"/>
                  <a:ext cx="1216800" cy="48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Rectangle 220"/>
            <p:cNvSpPr/>
            <p:nvPr/>
          </p:nvSpPr>
          <p:spPr>
            <a:xfrm>
              <a:off x="0" y="0"/>
              <a:ext cx="9143640" cy="5791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220"/>
          <p:cNvSpPr/>
          <p:nvPr/>
        </p:nvSpPr>
        <p:spPr>
          <a:xfrm>
            <a:off x="685800" y="59342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ISO---Organización Internacional de Normalizació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914400" y="442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Otras Fuentes de Contaminación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1523880" y="19810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gua de los proces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quip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teriales y reactivos químicos (proce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ases del proc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ción Debido a Contacto con el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948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Los seres humanos deben permanecer aislados, tanto como sea posible, de cualquier contacto directo con los materiales n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Cambria"/>
              </a:rPr>
              <a:t>Dependiendo de la situación, el personal debe utilizar trajes especiales para salas limpias (conocidos como "traje de conejo"), que constan de una capucha, máscara, batas, botas y g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aminación Hum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1932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Algunas partículas generadas por el personal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camas de piel o cuero cabelludo m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Fijador u otros productos para el p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s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abello f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opa ex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tículas generadas por la respi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6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0" y="581040"/>
            <a:ext cx="9067680" cy="5695920"/>
            <a:chOff x="0" y="581040"/>
            <a:chExt cx="9067680" cy="569592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581040"/>
              <a:ext cx="2819160" cy="56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4"/>
            <p:cNvSpPr/>
            <p:nvPr/>
          </p:nvSpPr>
          <p:spPr>
            <a:xfrm>
              <a:off x="3581280" y="2743200"/>
              <a:ext cx="54864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¿Cómo Se Esparcen Los Contaminantes Humanos?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versación  (saliva) – 2 a 3 p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os (saliva and tejido pulmonar) – 4 a 6 p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ornudos – 10 a 15 pies @ 200 MPH y se emiten aproximadamente 1,400,000 partícula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4" name="Straight Arrow Connector 8"/>
            <p:cNvCxnSpPr/>
            <p:nvPr/>
          </p:nvCxnSpPr>
          <p:spPr>
            <a:xfrm>
              <a:off x="3124080" y="380988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5" name="Straight Arrow Connector 10"/>
            <p:cNvCxnSpPr/>
            <p:nvPr/>
          </p:nvCxnSpPr>
          <p:spPr>
            <a:xfrm>
              <a:off x="3124080" y="434340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6" name="Straight Arrow Connector 13"/>
            <p:cNvCxnSpPr/>
            <p:nvPr/>
          </p:nvCxnSpPr>
          <p:spPr>
            <a:xfrm>
              <a:off x="3124080" y="487512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67" name="Straight Connector 15"/>
            <p:cNvSpPr/>
            <p:nvPr/>
          </p:nvSpPr>
          <p:spPr>
            <a:xfrm flipH="1">
              <a:off x="3124080" y="3811680"/>
              <a:ext cx="1440" cy="10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8" name="Straight Arrow Connector 20"/>
            <p:cNvCxnSpPr/>
            <p:nvPr/>
          </p:nvCxnSpPr>
          <p:spPr>
            <a:xfrm>
              <a:off x="2437920" y="4343400"/>
              <a:ext cx="53388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5"/>
          <p:cNvGraphicFramePr/>
          <p:nvPr/>
        </p:nvGraphicFramePr>
        <p:xfrm>
          <a:off x="533520" y="457200"/>
          <a:ext cx="809784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09784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6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2266920" y="2448000"/>
            <a:ext cx="4819680" cy="39528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"/>
          <p:cNvSpPr/>
          <p:nvPr/>
        </p:nvSpPr>
        <p:spPr>
          <a:xfrm>
            <a:off x="38088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Análisis de Partículas en los Cosmétic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"/>
          <p:cNvSpPr/>
          <p:nvPr/>
        </p:nvSpPr>
        <p:spPr>
          <a:xfrm>
            <a:off x="1066680" y="9144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álisis de Energía Dispersiva de Rayos X (EDX) obtenida con Equipo de Microscopía Electrónica de Barrido (S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914400" y="380880"/>
            <a:ext cx="7442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mencemos con la Definición de la palabra Infraestructura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676520" y="2895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n su uso común, significa sistemas, equipo, servicios y facilida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763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Protegiendo el Ambiente de Nanofabricación de los Contaminantes Human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000000"/>
                </a:solidFill>
                <a:latin typeface="Cambria"/>
              </a:rPr>
              <a:t>Vestimenta de Cuarto Limp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Vestimenta de Cuarto Limp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ta diseñada para logr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ntención total de aerosoles y partículas generadas por el 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ero liberación de partículas del sistema de la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ero acumulación de carga eléctrica, evitando así descargas electrostáticas (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iminar liberación de residuos químicos o b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9"/>
          <p:cNvGrpSpPr/>
          <p:nvPr/>
        </p:nvGrpSpPr>
        <p:grpSpPr>
          <a:xfrm>
            <a:off x="0" y="228600"/>
            <a:ext cx="9229320" cy="6172200"/>
            <a:chOff x="0" y="228600"/>
            <a:chExt cx="9229320" cy="6172200"/>
          </a:xfrm>
        </p:grpSpPr>
        <p:pic>
          <p:nvPicPr>
            <p:cNvPr id="381" name="Picture 4" descr=""/>
            <p:cNvPicPr/>
            <p:nvPr/>
          </p:nvPicPr>
          <p:blipFill>
            <a:blip r:embed="rId1"/>
            <a:srcRect l="3027" t="0" r="6054" b="1678"/>
            <a:stretch/>
          </p:blipFill>
          <p:spPr>
            <a:xfrm>
              <a:off x="3352680" y="228600"/>
              <a:ext cx="22860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Box 2"/>
            <p:cNvSpPr/>
            <p:nvPr/>
          </p:nvSpPr>
          <p:spPr>
            <a:xfrm>
              <a:off x="6095520" y="761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puch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3"/>
            <p:cNvSpPr/>
            <p:nvPr/>
          </p:nvSpPr>
          <p:spPr>
            <a:xfrm>
              <a:off x="5883120" y="304560"/>
              <a:ext cx="334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rro (debajo de la capucha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4"/>
            <p:cNvSpPr/>
            <p:nvPr/>
          </p:nvSpPr>
          <p:spPr>
            <a:xfrm>
              <a:off x="6101280" y="57913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ta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5"/>
            <p:cNvSpPr/>
            <p:nvPr/>
          </p:nvSpPr>
          <p:spPr>
            <a:xfrm>
              <a:off x="1002600" y="380880"/>
              <a:ext cx="23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fas de segurida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6"/>
            <p:cNvSpPr/>
            <p:nvPr/>
          </p:nvSpPr>
          <p:spPr>
            <a:xfrm>
              <a:off x="1752480" y="10666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áscar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8"/>
            <p:cNvSpPr/>
            <p:nvPr/>
          </p:nvSpPr>
          <p:spPr>
            <a:xfrm>
              <a:off x="1880280" y="251460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bre-todo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8" name="Straight Arrow Connector 10"/>
            <p:cNvCxnSpPr>
              <a:stCxn id="383" idx="1"/>
            </p:cNvCxnSpPr>
            <p:nvPr/>
          </p:nvCxnSpPr>
          <p:spPr>
            <a:xfrm flipH="1">
              <a:off x="4613040" y="489240"/>
              <a:ext cx="1254240" cy="6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89" name="Straight Arrow Connector 12"/>
            <p:cNvCxnSpPr>
              <a:stCxn id="382" idx="1"/>
            </p:cNvCxnSpPr>
            <p:nvPr/>
          </p:nvCxnSpPr>
          <p:spPr>
            <a:xfrm flipH="1" flipV="1">
              <a:off x="4876200" y="913680"/>
              <a:ext cx="1219680" cy="3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90" name="Straight Arrow Connector 14"/>
            <p:cNvCxnSpPr>
              <a:stCxn id="385" idx="3"/>
            </p:cNvCxnSpPr>
            <p:nvPr/>
          </p:nvCxnSpPr>
          <p:spPr>
            <a:xfrm>
              <a:off x="3317040" y="565200"/>
              <a:ext cx="72180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91" name="Straight Arrow Connector 16"/>
            <p:cNvCxnSpPr>
              <a:stCxn id="386" idx="3"/>
            </p:cNvCxnSpPr>
            <p:nvPr/>
          </p:nvCxnSpPr>
          <p:spPr>
            <a:xfrm flipV="1">
              <a:off x="3047760" y="990000"/>
              <a:ext cx="1296000" cy="26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92" name="TextBox 17"/>
            <p:cNvSpPr/>
            <p:nvPr/>
          </p:nvSpPr>
          <p:spPr>
            <a:xfrm>
              <a:off x="0" y="5562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ndas para zapatos (debajo de las botas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Straight Arrow Connector 19"/>
            <p:cNvCxnSpPr/>
            <p:nvPr/>
          </p:nvCxnSpPr>
          <p:spPr>
            <a:xfrm>
              <a:off x="2361600" y="5867280"/>
              <a:ext cx="16009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94" name="Straight Arrow Connector 21"/>
            <p:cNvCxnSpPr>
              <a:stCxn id="387" idx="3"/>
            </p:cNvCxnSpPr>
            <p:nvPr/>
          </p:nvCxnSpPr>
          <p:spPr>
            <a:xfrm flipV="1">
              <a:off x="3333240" y="2666160"/>
              <a:ext cx="629280" cy="3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95" name="TextBox 22"/>
            <p:cNvSpPr/>
            <p:nvPr/>
          </p:nvSpPr>
          <p:spPr>
            <a:xfrm>
              <a:off x="5873760" y="342900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uant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Straight Arrow Connector 24"/>
            <p:cNvCxnSpPr>
              <a:stCxn id="395" idx="1"/>
            </p:cNvCxnSpPr>
            <p:nvPr/>
          </p:nvCxnSpPr>
          <p:spPr>
            <a:xfrm flipH="1" flipV="1">
              <a:off x="5333040" y="3504600"/>
              <a:ext cx="533880" cy="10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97" name="TextBox 26"/>
            <p:cNvSpPr/>
            <p:nvPr/>
          </p:nvSpPr>
          <p:spPr>
            <a:xfrm>
              <a:off x="1752480" y="3352680"/>
              <a:ext cx="1676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pel y libretas para uso exclusivo en el cuarto limp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Straight Arrow Connector 28"/>
            <p:cNvCxnSpPr/>
            <p:nvPr/>
          </p:nvCxnSpPr>
          <p:spPr>
            <a:xfrm flipV="1">
              <a:off x="2590200" y="3352320"/>
              <a:ext cx="14482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399" name="Straight Arrow Connector 22"/>
          <p:cNvCxnSpPr>
            <a:stCxn id="384" idx="1"/>
          </p:cNvCxnSpPr>
          <p:nvPr/>
        </p:nvCxnSpPr>
        <p:spPr>
          <a:xfrm flipH="1">
            <a:off x="5181120" y="5974920"/>
            <a:ext cx="91512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0" name="Rectangle 23"/>
          <p:cNvSpPr/>
          <p:nvPr/>
        </p:nvSpPr>
        <p:spPr>
          <a:xfrm>
            <a:off x="6515280" y="6114960"/>
            <a:ext cx="247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Ejemplo de Protocolo de Vestimen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5"/>
          <p:cNvGraphicFramePr/>
          <p:nvPr/>
        </p:nvGraphicFramePr>
        <p:xfrm>
          <a:off x="1295280" y="1219320"/>
          <a:ext cx="6554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554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762120" y="380880"/>
            <a:ext cx="7848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Infraestructura Para la Seguridad y Protección de los Trabajad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1219320" y="1828800"/>
            <a:ext cx="693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opa y accesorios de seguridad (e.g., guantes, delantales, máscaras, anteojos de protección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staciones de lavado de ojos, duchas,   alar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ampanas extractora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ámaras de aislamiento (“glove box”), et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Filt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rotección contra la radi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Protección del Medio Ambien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1828800" y="190512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ecogido de materiales y líqui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Sistemas de purificación de agua y gases desech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¿Que Significa el Término Infraestructura Cuando Hablamos de Nanotecnología</a:t>
            </a:r>
            <a:r>
              <a:rPr b="1" lang="es-ES_tradnl" sz="40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6668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s facilidades usadas en nan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equipo usado en nan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¿Por qué Necesitamos Infraestructu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fabr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control de 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control de procesos y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la seguridad y protección de l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Para la protección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¿Qué es la Contamin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contaminación es un término general usado para describir el material indeseado que afecta negativamente a la fabricación o síntesis de un nano-produ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un producto nano tiene al menos una dimensión en la nano-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a escala definirá el efecto de los contaminantes en este 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ntaminación afecta tres áreas princip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Rendimiento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jecu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Los materiales utilizados en el procesamiento, el equipo de proceso, las instalaciones de procesamiento y las personas que realizan los procesos pueden causar contaminación, daño o ambos a los productos micro y nano-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¿Cuáles Son las Fuentes de Contamin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Cambria"/>
              </a:rPr>
              <a:t>Control de Proc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mbria"/>
              </a:rPr>
              <a:t>El control de procesos requiere un comando completo de los materiales, estructura y dimensiones del nano-producto que se está fabric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8:11:26Z</dcterms:created>
  <dc:creator>jgm145</dc:creator>
  <dc:description/>
  <dc:language>en-US</dc:language>
  <cp:lastModifiedBy>Janet Pinhorn</cp:lastModifiedBy>
  <dcterms:modified xsi:type="dcterms:W3CDTF">2014-10-21T20:35:59Z</dcterms:modified>
  <cp:revision>418</cp:revision>
  <dc:subject/>
  <dc:title>Nanofabrication Manufacturing Technology Program</dc:title>
</cp:coreProperties>
</file>